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27D-490C-4FCB-8159-577F6B3DF1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A666-E632-4784-8C88-560ADE6DD0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09D-0CCF-4351-B579-AD4AFA7A06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192-CDC9-472F-A5F4-9322DB64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57F-58CD-4BAB-A6F0-A11D8875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FD8-6B02-4080-9AC4-FF98D00E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F50-42E1-4D5D-9500-C8FDC529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EC3D-25B6-46FC-AF44-DCF4FCA3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2659-CEBE-426C-9130-314544F0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1E13-CDD0-4B2D-83BE-39584470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F23C-7BEF-4DE8-A793-45C4C10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8168-53E6-42FC-9348-C630732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3C2-4D14-4B4A-A865-428C1C55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70F-C645-4F93-83E4-645C968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DBC-DB26-4E01-9BB7-8606DE7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957-E80D-4AE8-A4E3-D8D4F43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CC3-DE7D-4F9B-A1EA-CF64CE7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8B5B-609D-4E91-90BD-FBA2D9D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366-17D3-468F-997B-70B75EB5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7713-002D-4E45-936A-7474B7BB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0FE7-8A9E-4659-934B-9C54005D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D5C1-07CA-4066-8995-9AD70BF4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213C-CCD0-4A9E-B8AF-36D07A1B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890C-EC19-44DA-813A-234DA641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76A2-2072-4E2C-9DE3-F8DBD40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FAA-FF6F-4084-AADE-835BD3EE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07BE-08F6-4D70-ABB1-AF2AACD4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96E8-41E1-4125-B128-E780988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6A6D-3B94-4587-8757-9D040C2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8136-2B10-4229-B12A-FF210DD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FE54-83C3-4EA6-AE90-887A654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4B8E-BF57-4C37-9721-A053D031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3489-AF75-497F-833C-E5E6FD16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9F7-6D7F-4B06-B4FB-3453D7B5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CBA-EA97-4CD6-B644-7ECC6D9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A3-C897-4793-BFD9-51F9A94B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287-3381-45FA-93D2-16F5DC0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1FD-3636-4F59-B135-5E8715F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FDA-9DF6-47F2-B887-D8779EF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3607-616C-4677-9C38-DFE871B5AF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DEB-BA17-4DE3-8AEC-CE4A7F37EFD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89C-A909-438E-944B-73F5C0D3E8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1852560" y="268200"/>
            <a:ext cx="6950160" cy="1725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95280" y="2492280"/>
            <a:ext cx="822024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еория, практика и методы экспертизы ценности фото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рядок формирования и обработки фото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Объект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80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41000" cy="2378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457200" y="2637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) Правилами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и муниципальных архивах, музеях и библиотеках, организациях Российской академии наук/ М-во культуры и массовых коммуникаций РФ, Федер. арх. агенство, ВНИИДАД. – М., 2007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2) Методическими рекомендациями «Отбор на постоянное хранение аудиовизуальных документов», ВНИИДАД – М. 2007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Эти нормативные документы определяют унифицированный порядок проведения экспертизы ценности документов, который распространяется и на аудиовизуальные докум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33440" y="542880"/>
            <a:ext cx="8442360" cy="10047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7"/>
          <p:cNvSpPr/>
          <p:nvPr/>
        </p:nvSpPr>
        <p:spPr>
          <a:xfrm>
            <a:off x="3286080" y="1979640"/>
            <a:ext cx="257184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Стрелка вниз 8"/>
          <p:cNvSpPr/>
          <p:nvPr/>
        </p:nvSpPr>
        <p:spPr>
          <a:xfrm rot="3268800">
            <a:off x="2835720" y="2494440"/>
            <a:ext cx="484200" cy="5302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трелка вниз 9"/>
          <p:cNvSpPr/>
          <p:nvPr/>
        </p:nvSpPr>
        <p:spPr>
          <a:xfrm rot="19229400">
            <a:off x="5776560" y="2557080"/>
            <a:ext cx="485640" cy="468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785880" y="2979720"/>
            <a:ext cx="2857320" cy="428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5072040" y="2979720"/>
            <a:ext cx="2786040" cy="428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3179880" y="4121280"/>
            <a:ext cx="2784240" cy="428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трелка вниз 13"/>
          <p:cNvSpPr/>
          <p:nvPr/>
        </p:nvSpPr>
        <p:spPr>
          <a:xfrm>
            <a:off x="4164120" y="2622600"/>
            <a:ext cx="485640" cy="15048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4"/>
          <p:cNvSpPr/>
          <p:nvPr/>
        </p:nvSpPr>
        <p:spPr>
          <a:xfrm>
            <a:off x="2143080" y="571680"/>
            <a:ext cx="571500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итерии ценности доку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5"/>
          <p:cNvSpPr/>
          <p:nvPr/>
        </p:nvSpPr>
        <p:spPr>
          <a:xfrm>
            <a:off x="2000160" y="958680"/>
            <a:ext cx="484200" cy="470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трелка вниз 6"/>
          <p:cNvSpPr/>
          <p:nvPr/>
        </p:nvSpPr>
        <p:spPr>
          <a:xfrm>
            <a:off x="4714920" y="938160"/>
            <a:ext cx="484200" cy="4906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трелка вниз 7"/>
          <p:cNvSpPr/>
          <p:nvPr/>
        </p:nvSpPr>
        <p:spPr>
          <a:xfrm>
            <a:off x="7500960" y="958680"/>
            <a:ext cx="484200" cy="470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324000" y="1428840"/>
            <a:ext cx="2428560" cy="51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ритерии происхождения доку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3643200" y="1428840"/>
            <a:ext cx="2224080" cy="51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ритерии ценности содерж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6572160" y="1428840"/>
            <a:ext cx="2357640" cy="51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ритерии внешних особенностей доку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355680" y="2224080"/>
            <a:ext cx="2500200" cy="409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игинальность (подлинность) доку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Соединительная линия уступом 16"/>
          <p:cNvCxnSpPr>
            <a:stCxn id="147" idx="1"/>
            <a:endCxn id="150" idx="1"/>
          </p:cNvCxnSpPr>
          <p:nvPr/>
        </p:nvCxnSpPr>
        <p:spPr>
          <a:xfrm flipH="1" flipV="1" rot="10800000">
            <a:off x="323640" y="1686600"/>
            <a:ext cx="32400" cy="741960"/>
          </a:xfrm>
          <a:prstGeom prst="bentConnector3">
            <a:avLst>
              <a:gd name="adj1" fmla="val -705617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52" name="Прямоугольник 24"/>
          <p:cNvSpPr/>
          <p:nvPr/>
        </p:nvSpPr>
        <p:spPr>
          <a:xfrm>
            <a:off x="355680" y="2786040"/>
            <a:ext cx="250020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ство доку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355680" y="3322800"/>
            <a:ext cx="250020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ремя и место соз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Соединительная линия уступом 28"/>
          <p:cNvCxnSpPr>
            <a:stCxn id="147" idx="1"/>
            <a:endCxn id="152" idx="1"/>
          </p:cNvCxnSpPr>
          <p:nvPr/>
        </p:nvCxnSpPr>
        <p:spPr>
          <a:xfrm flipH="1" flipV="1" rot="10800000">
            <a:off x="323640" y="1686240"/>
            <a:ext cx="32400" cy="1276560"/>
          </a:xfrm>
          <a:prstGeom prst="bentConnector3">
            <a:avLst>
              <a:gd name="adj1" fmla="val -705617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55" name="Соединительная линия уступом 32"/>
          <p:cNvCxnSpPr>
            <a:stCxn id="147" idx="1"/>
            <a:endCxn id="153" idx="1"/>
          </p:cNvCxnSpPr>
          <p:nvPr/>
        </p:nvCxnSpPr>
        <p:spPr>
          <a:xfrm flipH="1" flipV="1" rot="10800000">
            <a:off x="323640" y="1687320"/>
            <a:ext cx="32400" cy="1815120"/>
          </a:xfrm>
          <a:prstGeom prst="bentConnector3">
            <a:avLst>
              <a:gd name="adj1" fmla="val -705617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56" name="Прямоугольник 49"/>
          <p:cNvSpPr/>
          <p:nvPr/>
        </p:nvSpPr>
        <p:spPr>
          <a:xfrm>
            <a:off x="3643200" y="2143080"/>
            <a:ext cx="2224080" cy="411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чение лица, события, объек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50"/>
          <p:cNvSpPr/>
          <p:nvPr/>
        </p:nvSpPr>
        <p:spPr>
          <a:xfrm>
            <a:off x="3643200" y="2678040"/>
            <a:ext cx="2224080" cy="57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стоверность сообщаемых све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51"/>
          <p:cNvSpPr/>
          <p:nvPr/>
        </p:nvSpPr>
        <p:spPr>
          <a:xfrm>
            <a:off x="3656160" y="3395520"/>
            <a:ext cx="2224080" cy="43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та освещаемых собы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Соединительная линия уступом 54"/>
          <p:cNvCxnSpPr>
            <a:stCxn id="148" idx="1"/>
            <a:endCxn id="156" idx="1"/>
          </p:cNvCxnSpPr>
          <p:nvPr/>
        </p:nvCxnSpPr>
        <p:spPr>
          <a:xfrm flipV="1" rot="10800000">
            <a:off x="3642480" y="1687680"/>
            <a:ext cx="13680" cy="66060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0" name="Соединительная линия уступом 57"/>
          <p:cNvCxnSpPr>
            <a:stCxn id="148" idx="1"/>
            <a:endCxn id="157" idx="1"/>
          </p:cNvCxnSpPr>
          <p:nvPr/>
        </p:nvCxnSpPr>
        <p:spPr>
          <a:xfrm flipV="1" rot="10800000">
            <a:off x="3642480" y="1686240"/>
            <a:ext cx="13680" cy="127656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1" name="Соединительная линия уступом 61"/>
          <p:cNvCxnSpPr>
            <a:stCxn id="148" idx="1"/>
            <a:endCxn id="158" idx="1"/>
          </p:cNvCxnSpPr>
          <p:nvPr/>
        </p:nvCxnSpPr>
        <p:spPr>
          <a:xfrm flipH="1" flipV="1" rot="10800000">
            <a:off x="3642840" y="1687320"/>
            <a:ext cx="13680" cy="1923120"/>
          </a:xfrm>
          <a:prstGeom prst="bentConnector3">
            <a:avLst>
              <a:gd name="adj1" fmla="val -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62" name="Прямоугольник 82"/>
          <p:cNvSpPr/>
          <p:nvPr/>
        </p:nvSpPr>
        <p:spPr>
          <a:xfrm>
            <a:off x="6572160" y="2276640"/>
            <a:ext cx="235764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о-химическое состо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83"/>
          <p:cNvSpPr/>
          <p:nvPr/>
        </p:nvSpPr>
        <p:spPr>
          <a:xfrm>
            <a:off x="6572160" y="2820960"/>
            <a:ext cx="235764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состо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84"/>
          <p:cNvSpPr/>
          <p:nvPr/>
        </p:nvSpPr>
        <p:spPr>
          <a:xfrm>
            <a:off x="6573960" y="3405240"/>
            <a:ext cx="235728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состо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Соединительная линия уступом 87"/>
          <p:cNvCxnSpPr>
            <a:stCxn id="149" idx="1"/>
            <a:endCxn id="162" idx="1"/>
          </p:cNvCxnSpPr>
          <p:nvPr/>
        </p:nvCxnSpPr>
        <p:spPr>
          <a:xfrm flipV="1" rot="10800000">
            <a:off x="6571440" y="1687320"/>
            <a:ext cx="13680" cy="76896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6" name="Соединительная линия уступом 90"/>
          <p:cNvCxnSpPr>
            <a:stCxn id="149" idx="1"/>
            <a:endCxn id="163" idx="1"/>
          </p:cNvCxnSpPr>
          <p:nvPr/>
        </p:nvCxnSpPr>
        <p:spPr>
          <a:xfrm flipV="1" rot="10800000">
            <a:off x="6571440" y="1687320"/>
            <a:ext cx="13680" cy="131328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7" name="Соединительная линия уступом 94"/>
          <p:cNvCxnSpPr>
            <a:stCxn id="149" idx="1"/>
            <a:endCxn id="164" idx="1"/>
          </p:cNvCxnSpPr>
          <p:nvPr/>
        </p:nvCxnSpPr>
        <p:spPr>
          <a:xfrm flipH="1" flipV="1" rot="10800000">
            <a:off x="6571080" y="1686600"/>
            <a:ext cx="2520" cy="1897560"/>
          </a:xfrm>
          <a:prstGeom prst="bentConnector3">
            <a:avLst>
              <a:gd name="adj1" fmla="val -14383333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68" name="Стрелка вниз 55"/>
          <p:cNvSpPr/>
          <p:nvPr/>
        </p:nvSpPr>
        <p:spPr>
          <a:xfrm>
            <a:off x="2916360" y="938160"/>
            <a:ext cx="360360" cy="32115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Стрелка вниз 58"/>
          <p:cNvSpPr/>
          <p:nvPr/>
        </p:nvSpPr>
        <p:spPr>
          <a:xfrm>
            <a:off x="5940360" y="958680"/>
            <a:ext cx="360360" cy="319104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59"/>
          <p:cNvSpPr/>
          <p:nvPr/>
        </p:nvSpPr>
        <p:spPr>
          <a:xfrm>
            <a:off x="1919160" y="4149720"/>
            <a:ext cx="5581800" cy="647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пецифические критерии, определяющие художественные достоинства фотографий, их вырази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530280" y="5108400"/>
            <a:ext cx="8381880" cy="13226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4" descr="IMG_1219.JPG"/>
          <p:cNvPicPr/>
          <p:nvPr/>
        </p:nvPicPr>
        <p:blipFill>
          <a:blip r:embed="rId2"/>
          <a:stretch/>
        </p:blipFill>
        <p:spPr>
          <a:xfrm>
            <a:off x="2987640" y="404640"/>
            <a:ext cx="30211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63680" y="4827600"/>
            <a:ext cx="838188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017-09-DSC6600.JPG.JPG"/>
          <p:cNvPicPr/>
          <p:nvPr/>
        </p:nvPicPr>
        <p:blipFill>
          <a:blip r:embed="rId2"/>
          <a:stretch/>
        </p:blipFill>
        <p:spPr>
          <a:xfrm>
            <a:off x="1116000" y="260280"/>
            <a:ext cx="6816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78000" y="-128520"/>
            <a:ext cx="8442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Приходите к нам учиться"/>
          <p:cNvPicPr/>
          <p:nvPr/>
        </p:nvPicPr>
        <p:blipFill>
          <a:blip r:embed="rId1"/>
          <a:stretch/>
        </p:blipFill>
        <p:spPr>
          <a:xfrm>
            <a:off x="2214720" y="21430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4" descr=""/>
          <p:cNvPicPr/>
          <p:nvPr/>
        </p:nvPicPr>
        <p:blipFill>
          <a:blip r:embed="rId2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КостинаАИ</cp:lastModifiedBy>
  <dcterms:modified xsi:type="dcterms:W3CDTF">2015-11-03T08:02:37Z</dcterms:modified>
  <cp:revision>1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A00E31EB1417642A7C5A9BA55DC95B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