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6494-82B2-4993-84AC-031818B8DB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4F5C-3719-462F-A476-B0FB4E743F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E3B3-5395-4B73-B599-CBC8DFE6BE5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941-BC80-4797-B9D9-4D3188A4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8B3-1841-4F91-A224-261947FC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522-3B44-4690-B4B3-CF9F44D9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B1E-55FF-4904-A17F-B50EB465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25E4-71C4-4497-94EA-0C2B906F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10F8-71F2-4F70-AC3C-C0A36415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4E56-0503-4194-B32C-72263A24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DBD3-A022-474C-94E6-01E9750D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0880-55AD-4BA5-81AC-CBE96155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FE95-4F25-4BCA-BAAA-7750B6B8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98B4-84C3-4B81-86A1-C6396B62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407A-2734-4029-9A41-07FEAD4D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19DD-90C5-4FAF-8514-E5B18E9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1B33-ADE4-4A4B-875A-2A1CF9F8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C69A-2B99-4183-B7F2-0E2CA4C2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674D-FF94-45EB-A505-FC6DDCCE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25D4-0257-4879-9104-6F6FCDD7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EE8D-ADB1-4C37-BF14-A3E1D0CE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31C2-6F93-4329-B0FF-28C557B7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331F-2577-43ED-8FBF-F9E2BD25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48230-A00A-4873-BB43-4BF29117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64C4C-FCB6-445A-B8B3-4CF17B2C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C1E-7645-42A3-81EE-03439EED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BEC0A-0695-4769-BEBB-6D4AA81C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32FA-F09E-443E-95C6-097B27F8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23B3-2948-45A7-BD5D-0DFC9651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4F478-0839-4851-B07C-85BC6203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D916-0000-4A75-A9C4-C0A7B966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E0D42-11A9-4D7B-BE23-498D1532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9B0D-0F61-45E0-8C01-5D7FD6A1A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99B-16BB-46B6-9388-04DA20CB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EE9-C9A8-4F66-A151-F7F5E19B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F0A7-CEAA-45C0-B7F5-DF1245F3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111-CC33-4F93-9A0D-22845CBF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359-22FE-4618-BCD9-1CBE42FA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A4C-6C35-4590-A355-BA2960D1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CB6D-B62D-4BD2-8A2F-96624D6E345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BF34-A378-4C0F-965E-8C62ADA8090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EDD7-7D8C-4064-A848-3378D657970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1852560" y="268200"/>
            <a:ext cx="6950160" cy="1725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395280" y="2492280"/>
            <a:ext cx="822024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еория, практика и методы экспертизы ценности фотодокумен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орядок формирования и обработки фотодокумен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Объект 6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080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541000" cy="23781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457200" y="2637000"/>
            <a:ext cx="82296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1) Правилами организации хранения, комплектования, учета и использования документов Архивного фонда Российской Федерации и других архивных документов в государственных и муниципальных архивах, музеях и библиотеках, организациях Российской академии наук/ М-во культуры и массовых коммуникаций РФ, Федер. арх. агенство, ВНИИДАД. – М., 2007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2) Методическими рекомендациями «Отбор на постоянное хранение аудиовизуальных документов», ВНИИДАД – М. 2007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364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Эти нормативные документы определяют унифицированный порядок проведения экспертизы ценности документов, который распространяется и на аудиовизуальные докумен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33440" y="542880"/>
            <a:ext cx="8442360" cy="10047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7"/>
          <p:cNvSpPr/>
          <p:nvPr/>
        </p:nvSpPr>
        <p:spPr>
          <a:xfrm>
            <a:off x="3286080" y="1979640"/>
            <a:ext cx="257184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нцип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Стрелка вниз 8"/>
          <p:cNvSpPr/>
          <p:nvPr/>
        </p:nvSpPr>
        <p:spPr>
          <a:xfrm rot="3268800">
            <a:off x="2835720" y="2494440"/>
            <a:ext cx="484200" cy="53028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Стрелка вниз 9"/>
          <p:cNvSpPr/>
          <p:nvPr/>
        </p:nvSpPr>
        <p:spPr>
          <a:xfrm rot="19229400">
            <a:off x="5776560" y="2557080"/>
            <a:ext cx="485640" cy="468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785880" y="2979720"/>
            <a:ext cx="2857320" cy="428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5072040" y="2979720"/>
            <a:ext cx="2786040" cy="428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12"/>
          <p:cNvSpPr/>
          <p:nvPr/>
        </p:nvSpPr>
        <p:spPr>
          <a:xfrm>
            <a:off x="3179880" y="4121280"/>
            <a:ext cx="2784240" cy="428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ос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трелка вниз 13"/>
          <p:cNvSpPr/>
          <p:nvPr/>
        </p:nvSpPr>
        <p:spPr>
          <a:xfrm>
            <a:off x="4164120" y="2622600"/>
            <a:ext cx="485640" cy="150480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4"/>
          <p:cNvSpPr/>
          <p:nvPr/>
        </p:nvSpPr>
        <p:spPr>
          <a:xfrm>
            <a:off x="2143080" y="571680"/>
            <a:ext cx="5715000" cy="35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итерии ценности докум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трелка вниз 5"/>
          <p:cNvSpPr/>
          <p:nvPr/>
        </p:nvSpPr>
        <p:spPr>
          <a:xfrm>
            <a:off x="2000160" y="958680"/>
            <a:ext cx="484200" cy="470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трелка вниз 6"/>
          <p:cNvSpPr/>
          <p:nvPr/>
        </p:nvSpPr>
        <p:spPr>
          <a:xfrm>
            <a:off x="4714920" y="938160"/>
            <a:ext cx="484200" cy="4906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трелка вниз 7"/>
          <p:cNvSpPr/>
          <p:nvPr/>
        </p:nvSpPr>
        <p:spPr>
          <a:xfrm>
            <a:off x="7500960" y="958680"/>
            <a:ext cx="484200" cy="470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324000" y="1428840"/>
            <a:ext cx="2428560" cy="51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ритерии происхождения докумен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2"/>
          <p:cNvSpPr/>
          <p:nvPr/>
        </p:nvSpPr>
        <p:spPr>
          <a:xfrm>
            <a:off x="3643200" y="1428840"/>
            <a:ext cx="2224080" cy="51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ритерии ценности содерж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6572160" y="1428840"/>
            <a:ext cx="2357640" cy="51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ритерии внешних особенностей докумен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4"/>
          <p:cNvSpPr/>
          <p:nvPr/>
        </p:nvSpPr>
        <p:spPr>
          <a:xfrm>
            <a:off x="355680" y="2224080"/>
            <a:ext cx="2500200" cy="409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игинальность (подлинность) доку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Соединительная линия уступом 16"/>
          <p:cNvCxnSpPr>
            <a:stCxn id="147" idx="1"/>
            <a:endCxn id="150" idx="1"/>
          </p:cNvCxnSpPr>
          <p:nvPr/>
        </p:nvCxnSpPr>
        <p:spPr>
          <a:xfrm flipH="1" flipV="1" rot="10800000">
            <a:off x="323640" y="1686600"/>
            <a:ext cx="32400" cy="741960"/>
          </a:xfrm>
          <a:prstGeom prst="bentConnector3">
            <a:avLst>
              <a:gd name="adj1" fmla="val -705617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152" name="Прямоугольник 24"/>
          <p:cNvSpPr/>
          <p:nvPr/>
        </p:nvSpPr>
        <p:spPr>
          <a:xfrm>
            <a:off x="355680" y="2786040"/>
            <a:ext cx="2500200" cy="35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рство докум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25"/>
          <p:cNvSpPr/>
          <p:nvPr/>
        </p:nvSpPr>
        <p:spPr>
          <a:xfrm>
            <a:off x="355680" y="3322800"/>
            <a:ext cx="2500200" cy="35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ремя и место созд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Соединительная линия уступом 28"/>
          <p:cNvCxnSpPr>
            <a:stCxn id="147" idx="1"/>
            <a:endCxn id="152" idx="1"/>
          </p:cNvCxnSpPr>
          <p:nvPr/>
        </p:nvCxnSpPr>
        <p:spPr>
          <a:xfrm flipH="1" flipV="1" rot="10800000">
            <a:off x="323640" y="1686240"/>
            <a:ext cx="32400" cy="1276560"/>
          </a:xfrm>
          <a:prstGeom prst="bentConnector3">
            <a:avLst>
              <a:gd name="adj1" fmla="val -705617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155" name="Соединительная линия уступом 32"/>
          <p:cNvCxnSpPr>
            <a:stCxn id="147" idx="1"/>
            <a:endCxn id="153" idx="1"/>
          </p:cNvCxnSpPr>
          <p:nvPr/>
        </p:nvCxnSpPr>
        <p:spPr>
          <a:xfrm flipH="1" flipV="1" rot="10800000">
            <a:off x="323640" y="1687320"/>
            <a:ext cx="32400" cy="1815120"/>
          </a:xfrm>
          <a:prstGeom prst="bentConnector3">
            <a:avLst>
              <a:gd name="adj1" fmla="val -705617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156" name="Прямоугольник 49"/>
          <p:cNvSpPr/>
          <p:nvPr/>
        </p:nvSpPr>
        <p:spPr>
          <a:xfrm>
            <a:off x="3643200" y="2143080"/>
            <a:ext cx="2224080" cy="411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начение лица, события, объек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50"/>
          <p:cNvSpPr/>
          <p:nvPr/>
        </p:nvSpPr>
        <p:spPr>
          <a:xfrm>
            <a:off x="3643200" y="2678040"/>
            <a:ext cx="2224080" cy="57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стоверность сообщаемых свед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51"/>
          <p:cNvSpPr/>
          <p:nvPr/>
        </p:nvSpPr>
        <p:spPr>
          <a:xfrm>
            <a:off x="3656160" y="3395520"/>
            <a:ext cx="2224080" cy="430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нота освещаемых собы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Соединительная линия уступом 54"/>
          <p:cNvCxnSpPr>
            <a:stCxn id="148" idx="1"/>
            <a:endCxn id="156" idx="1"/>
          </p:cNvCxnSpPr>
          <p:nvPr/>
        </p:nvCxnSpPr>
        <p:spPr>
          <a:xfrm flipV="1" rot="10800000">
            <a:off x="3642480" y="1687680"/>
            <a:ext cx="13680" cy="660600"/>
          </a:xfrm>
          <a:prstGeom prst="bentConnector3">
            <a:avLst>
              <a:gd name="adj1" fmla="val 1800000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160" name="Соединительная линия уступом 57"/>
          <p:cNvCxnSpPr>
            <a:stCxn id="148" idx="1"/>
            <a:endCxn id="157" idx="1"/>
          </p:cNvCxnSpPr>
          <p:nvPr/>
        </p:nvCxnSpPr>
        <p:spPr>
          <a:xfrm flipV="1" rot="10800000">
            <a:off x="3642480" y="1686240"/>
            <a:ext cx="13680" cy="1276560"/>
          </a:xfrm>
          <a:prstGeom prst="bentConnector3">
            <a:avLst>
              <a:gd name="adj1" fmla="val 1800000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161" name="Соединительная линия уступом 61"/>
          <p:cNvCxnSpPr>
            <a:stCxn id="148" idx="1"/>
            <a:endCxn id="158" idx="1"/>
          </p:cNvCxnSpPr>
          <p:nvPr/>
        </p:nvCxnSpPr>
        <p:spPr>
          <a:xfrm flipH="1" flipV="1" rot="10800000">
            <a:off x="3642840" y="1687320"/>
            <a:ext cx="13680" cy="1923120"/>
          </a:xfrm>
          <a:prstGeom prst="bentConnector3">
            <a:avLst>
              <a:gd name="adj1" fmla="val -1800000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162" name="Прямоугольник 82"/>
          <p:cNvSpPr/>
          <p:nvPr/>
        </p:nvSpPr>
        <p:spPr>
          <a:xfrm>
            <a:off x="6572160" y="2276640"/>
            <a:ext cx="2357640" cy="35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ко-химическое состоя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83"/>
          <p:cNvSpPr/>
          <p:nvPr/>
        </p:nvSpPr>
        <p:spPr>
          <a:xfrm>
            <a:off x="6572160" y="2820960"/>
            <a:ext cx="2357640" cy="35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ое состоя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84"/>
          <p:cNvSpPr/>
          <p:nvPr/>
        </p:nvSpPr>
        <p:spPr>
          <a:xfrm>
            <a:off x="6573960" y="3405240"/>
            <a:ext cx="2357280" cy="357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ое состоя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Соединительная линия уступом 87"/>
          <p:cNvCxnSpPr>
            <a:stCxn id="149" idx="1"/>
            <a:endCxn id="162" idx="1"/>
          </p:cNvCxnSpPr>
          <p:nvPr/>
        </p:nvCxnSpPr>
        <p:spPr>
          <a:xfrm flipV="1" rot="10800000">
            <a:off x="6571440" y="1687320"/>
            <a:ext cx="13680" cy="768960"/>
          </a:xfrm>
          <a:prstGeom prst="bentConnector3">
            <a:avLst>
              <a:gd name="adj1" fmla="val 1800000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166" name="Соединительная линия уступом 90"/>
          <p:cNvCxnSpPr>
            <a:stCxn id="149" idx="1"/>
            <a:endCxn id="163" idx="1"/>
          </p:cNvCxnSpPr>
          <p:nvPr/>
        </p:nvCxnSpPr>
        <p:spPr>
          <a:xfrm flipV="1" rot="10800000">
            <a:off x="6571440" y="1687320"/>
            <a:ext cx="13680" cy="1313280"/>
          </a:xfrm>
          <a:prstGeom prst="bentConnector3">
            <a:avLst>
              <a:gd name="adj1" fmla="val 1800000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167" name="Соединительная линия уступом 94"/>
          <p:cNvCxnSpPr>
            <a:stCxn id="149" idx="1"/>
            <a:endCxn id="164" idx="1"/>
          </p:cNvCxnSpPr>
          <p:nvPr/>
        </p:nvCxnSpPr>
        <p:spPr>
          <a:xfrm flipH="1" flipV="1" rot="10800000">
            <a:off x="6571080" y="1686600"/>
            <a:ext cx="2520" cy="1897560"/>
          </a:xfrm>
          <a:prstGeom prst="bentConnector3">
            <a:avLst>
              <a:gd name="adj1" fmla="val -14383333"/>
            </a:avLst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168" name="Стрелка вниз 55"/>
          <p:cNvSpPr/>
          <p:nvPr/>
        </p:nvSpPr>
        <p:spPr>
          <a:xfrm>
            <a:off x="2916360" y="938160"/>
            <a:ext cx="360360" cy="32115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Стрелка вниз 58"/>
          <p:cNvSpPr/>
          <p:nvPr/>
        </p:nvSpPr>
        <p:spPr>
          <a:xfrm>
            <a:off x="5940360" y="958680"/>
            <a:ext cx="360360" cy="319104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59"/>
          <p:cNvSpPr/>
          <p:nvPr/>
        </p:nvSpPr>
        <p:spPr>
          <a:xfrm>
            <a:off x="1919160" y="4149720"/>
            <a:ext cx="5581800" cy="647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пецифические критерии, определяющие художественные достоинства фотографий, их выразитель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9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2" descr=""/>
          <p:cNvPicPr/>
          <p:nvPr/>
        </p:nvPicPr>
        <p:blipFill>
          <a:blip r:embed="rId1"/>
          <a:stretch/>
        </p:blipFill>
        <p:spPr>
          <a:xfrm>
            <a:off x="530280" y="5108400"/>
            <a:ext cx="8381880" cy="1322640"/>
          </a:xfrm>
          <a:prstGeom prst="rect">
            <a:avLst/>
          </a:prstGeom>
          <a:ln w="0">
            <a:noFill/>
          </a:ln>
        </p:spPr>
      </p:pic>
      <p:pic>
        <p:nvPicPr>
          <p:cNvPr id="172" name="Содержимое 4" descr="IMG_1219.JPG"/>
          <p:cNvPicPr/>
          <p:nvPr/>
        </p:nvPicPr>
        <p:blipFill>
          <a:blip r:embed="rId2"/>
          <a:stretch/>
        </p:blipFill>
        <p:spPr>
          <a:xfrm>
            <a:off x="2987640" y="404640"/>
            <a:ext cx="30211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463680" y="4827600"/>
            <a:ext cx="8381880" cy="193356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3" descr="017-09-DSC6600.JPG.JPG"/>
          <p:cNvPicPr/>
          <p:nvPr/>
        </p:nvPicPr>
        <p:blipFill>
          <a:blip r:embed="rId2"/>
          <a:stretch/>
        </p:blipFill>
        <p:spPr>
          <a:xfrm>
            <a:off x="1116000" y="260280"/>
            <a:ext cx="68166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378000" y="-128520"/>
            <a:ext cx="844200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Приходите к нам учиться"/>
          <p:cNvPicPr/>
          <p:nvPr/>
        </p:nvPicPr>
        <p:blipFill>
          <a:blip r:embed="rId1"/>
          <a:stretch/>
        </p:blipFill>
        <p:spPr>
          <a:xfrm>
            <a:off x="2214720" y="214308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177" name="Rectangle 4" descr=""/>
          <p:cNvPicPr/>
          <p:nvPr/>
        </p:nvPicPr>
        <p:blipFill>
          <a:blip r:embed="rId2"/>
          <a:stretch/>
        </p:blipFill>
        <p:spPr>
          <a:xfrm>
            <a:off x="450720" y="27468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КостинаАИ</cp:lastModifiedBy>
  <dcterms:modified xsi:type="dcterms:W3CDTF">2015-11-03T08:02:37Z</dcterms:modified>
  <cp:revision>17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A00E31EB1417642A7C5A9BA55DC95BD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